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846-91BD-49DE-AA02-61924824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93C-F767-4084-95EC-5EE5EDEE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832-9449-4573-9416-A2162974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9E0-4BB0-4564-9B5B-5B176E03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E49E-E57A-4A49-A662-29B46BA2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302-46A5-4DD9-8C8E-D10C8E1A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A4C-72A2-495C-AF49-D5555E6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DBDD-B645-484E-9285-77C31DA3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555F-23F1-4825-9631-7093E8A3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1568-5B19-4B56-944F-B6B13D8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485-2733-4E45-9738-68B6F39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AFC-38CE-41E0-BF2E-9C940734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AA2-2CFE-44D9-9AEC-39BEB11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80FD-1DB7-4B56-909E-76B77EB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C5FF-FE9F-4569-8EC8-8BD262A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E5F-B6B0-4B7B-BDD0-02F4C209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3143-DEF5-46C5-A83D-B793BEBE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410-8CA7-4C32-AEDE-08E1B44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544-1427-49C9-BA16-50892C4A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946-3321-495C-8B49-86D3194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478-6202-443C-95B9-FBCE5574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3A7-F385-4D53-88C0-7082AC70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CDB-4A57-4257-9545-7EB0BC2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345-CB22-49A4-84FA-AB614B4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6ECF-7B01-489A-978C-5568A71E1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184D-7A78-4B9D-8DC8-F97F58CED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мещение временных здани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62160" y="2168640"/>
            <a:ext cx="713736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построения на чертеже строительного генерального плана графических изображений временных зданий и сооружений на основании расчетных данных, загружаемых из программного модуля «Расчет потребности во временных зданиях»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коррекции загруженной информации, в том числе блокирования зданий по длине, ширине и выс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вставки в чертеж каталожных листов и таблицы экспликации размещенных зд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93800" y="55911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змещения временных зданий и сооружений необходимо ввести участок строительства, задав его наименование, размеры и местоположение на чертеже стройгенплана. Далее нужно сформировать для выбранного участка список зданий для размещения на нем. Это можно выполнить  как вручную, так и загрузив информацию из модуля «Расчет потребности во временных зданиях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39760" y="941400"/>
            <a:ext cx="544860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участка временны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й и сооруж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8840" y="57024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изменить наименование участка, установить флажок отображения наименования участка на чертеже и указать масштаб построений на чертеже. По каждому зданию хранится следующая информация: наименование здания, наименование проекта (шифра) здания, признак блокирования зданий, габариты здания, количество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43280" y="1027080"/>
            <a:ext cx="561636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ременных зданий и сооружений из справоч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635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технологический справочник содержит структурированный перечень временных зданий и сооружений. По каждому зданию (сооружению) хранится его описание и список назначений с нормативными показателями (полезная площадь или расчетное количество человек). Имеется возможность фильтрации списка по фрагменту наименования и/или по признаку «Избранное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05000" y="1101600"/>
            <a:ext cx="51069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временного здания или соору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52480" y="59626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се характеристики любого здания или сооружения могут быть изменены. Также при необходимости можно указать способ блокирования нескольких одинаковых зданий по длине, ширине и выс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482920" y="1136520"/>
            <a:ext cx="468612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 здания (группы зданий)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17560" y="5114880"/>
            <a:ext cx="75898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д размещением здания (группы зданий) на чертеже имеется возможность настроить его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положение зданий (вертикальное или горизонтальное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-во зданий в ряду (по умолчанию все здания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зданиями в ряд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рядами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266920" y="1220760"/>
            <a:ext cx="49482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временных зданий и сооруж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836720" y="1160640"/>
            <a:ext cx="610704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21:04Z</dcterms:modified>
  <cp:revision>294</cp:revision>
  <dc:subject/>
  <dc:title>Слайд 1</dc:title>
</cp:coreProperties>
</file>